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B5D-4D98-4E7E-8209-C2E15DCB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C49-1EEF-4D93-840F-ADC140B7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0ABBC-81AF-43F7-B4C2-E53A9FE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E91DD-B5D2-4FAC-B5B0-DBD6299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A16F8-1A97-48A9-BC57-79CDCC50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CDD4E-D34F-4418-B311-853A9A07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3076C-358A-4D34-B4B1-EAB9F9B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7C22B-DC3F-4E35-92F9-5CDF4DA9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5EB1-22D3-4BD5-9B66-59A4771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3C821-8C45-4CCE-82DE-043A15F3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5F4B-8146-41B2-BB12-E5FA8567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F62-9067-4F15-B2C8-8626892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0A0-A417-4DA3-8CAE-188569EF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4216-7BB2-4742-82F7-B1AFDF01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432A-61CF-4E64-9B1D-EAACDC6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050-0F8C-4721-86C1-7DE70ECD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C7B-E80A-4C4F-B151-75A8010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46DE-E3C6-4926-9D7E-A48E9C5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213-B556-4B31-949A-DCEF5C9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EEB-540B-48AA-A8CF-BEA116B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A8B-CC07-404B-8E21-3977139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CB8-D025-42AF-B353-C438387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F932-87A1-4B30-871E-A8D0BF1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4852-9F24-4F3E-AFF4-9ABCED6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1BC-FAE7-4012-BFAC-600C3833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065D-5E06-4599-9717-1C597412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CE52-0E01-40CC-9ED3-07D92099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DF5B-F23E-4771-ADE8-C5F207F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FEDF-00D1-43E5-A1E2-31681A10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4EBF-F7F7-4BDF-AA61-5BF6B513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4D78-FC4D-47C5-9C9D-B9B9C427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78E-29B2-4700-B58B-D35BBA7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B159-4D48-4B5A-AFBD-0B6394E2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D5CD-E950-42A2-8631-BC237D4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FB52-6101-4176-A909-5C8654D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D1B0-D693-406D-8B81-714A99F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9678-4BCE-4D6F-B855-01F003E3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FD35-8256-4B28-BBF8-AEB3A0E0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B6E9-7A6F-4255-9596-8BD9A521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F09A-CE4F-415F-A595-794A626D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263B-59DF-4D6D-8EEE-6C76565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D651-8124-4BD8-895F-568947D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C8C-4E64-4414-96D2-A01455CA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D28B-8EC9-4499-B024-E898C06C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B211-D377-43F3-8180-9394DD6D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A999-4CE1-4ABD-A66F-60FAA21D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1B55-EF03-4C67-B2DC-FE227FB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5A3F-89DA-4BE5-BFE8-D73E853A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8F97-D3C8-4590-80A4-A40CEE3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4C03E-4FE6-47D3-9173-3BC76EC3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CE08-FB72-467A-B1A6-3A64AA17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660B-8F5D-4AC8-A573-FD0C6160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9DAA-220D-40FF-81C6-E7BBC29D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922-7B10-4E82-9016-98DB420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E18F-43B8-43FB-B573-1069C87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8A74-332B-4508-940F-6C1297DD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762A-2FA2-4A26-A40C-C3AC3F1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AAEBE-0E83-4D22-9514-CEF5DC7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F776-F26F-422F-AF96-B179408B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B2D9-AAA0-42D7-B1D5-A1F7173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F3F59-BFE9-45E9-BF21-671CDFA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84B1-157C-484D-A8BB-99FBC4BD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BECC-DFE2-4C65-ACD3-94984D9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8D0C-E420-4D60-984E-1C9B42F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444-0D92-40B1-AF5C-D8D118D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4517-16A6-434D-92A4-D34CE5C4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0966-7F83-4CE7-8758-56AAA8EF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5FB7-EBAB-43EA-93EB-0252768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15C4-FF8E-47B7-A90A-5873979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EA33-7182-44DA-B224-477D2D7B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E086-9D96-4365-A54E-DF60D4B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F556-7031-4F2A-9628-46AC832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4EBCD-CAC7-469D-B56C-865A5E5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4EBC-1569-4556-A237-9CD67A7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A582-F904-4937-B933-FE172E9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C8B-03A7-4253-9F2B-7264CF7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F992-9A3B-432F-9242-60ACF627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7316-A607-4421-858E-3350B62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D0B7-5DC8-497D-B73A-7C4D0F7B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3CA2-5EA0-43CD-A357-761F0CA1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5F83-68E3-463D-A42F-C61DB1E1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2ADA-8032-4958-A2EB-232D62E4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97C8-8D61-4EEE-8875-5CE67FF9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E2CB-29CD-47EC-B5F4-9F486DF4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6181-592B-4A66-A347-0767E40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2C5E-AF29-484A-8D1E-719149A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931-B130-4287-9332-98F9DE3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3E8C-C56A-46C4-B851-C8A4940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3093F-2786-485B-9FF2-DB22BC3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E7A0-4465-4C25-BFF4-7DA3DC0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E194-AC77-4618-A3E1-2B1B18F9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4570-933A-4356-B8BB-008808A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EC2A-64F4-4F08-BE69-12F23B3A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5097F-BE83-4B89-8F4C-6BDC9204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2A52-7D7F-4CA7-8CF2-B36D5E7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935E-D301-419F-B1EE-E9A102A3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5D21-9597-4C2E-8785-3C5D3ED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A5A-2452-4F34-B4C7-9A7B0B6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C3872-321B-4C2C-9E20-947D5D1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8AD53-F79B-49C0-B0F2-3249382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676E-7181-445A-A283-177E57E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7AFC-D865-4876-9C2E-96529DB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DE79-5561-45A4-956D-957CE52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86A08-BAE6-4D54-B6F6-EABF0BE4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A7BE-35AC-4246-A7DE-DFE73D12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F0AF6-827F-4D1F-AC03-F77FFA7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5C17E-AEA2-4C8C-91F1-73A4EDF8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A48FB-07B7-4BF2-BD45-CCB8E12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1BD9-6BBC-4B71-A5BD-6B9525A259B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4CE-FE32-4F0B-9461-835EBA41FA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2B5-9116-44DA-8817-B66A9A09E3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5639-8B42-48FB-B689-3855FCC559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B27-08D3-4C64-AE70-2EB6027E3B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CC60-6417-4F5D-AAB5-0E89F0EC8D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4C56-125B-4039-B26D-AFFCAE695C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4733-E03D-41DD-B590-D0AB1532EF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B8E-9D03-4D79-9CB2-801B4E5DDD8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2"/>
          <a:stretch/>
        </p:blipFill>
        <p:spPr>
          <a:xfrm>
            <a:off x="1504800" y="1390680"/>
            <a:ext cx="6134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Diagram 3" descr=""/>
          <p:cNvPicPr/>
          <p:nvPr/>
        </p:nvPicPr>
        <p:blipFill>
          <a:blip r:embed="rId2"/>
          <a:stretch/>
        </p:blipFill>
        <p:spPr>
          <a:xfrm>
            <a:off x="225360" y="1432080"/>
            <a:ext cx="8925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Diagram 3" descr=""/>
          <p:cNvPicPr/>
          <p:nvPr/>
        </p:nvPicPr>
        <p:blipFill>
          <a:blip r:embed="rId2"/>
          <a:stretch/>
        </p:blipFill>
        <p:spPr>
          <a:xfrm>
            <a:off x="-6480" y="755640"/>
            <a:ext cx="893124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is the function of DNA Polymeras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DNA replication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2:18:18Z</dcterms:created>
  <dc:creator>LL4</dc:creator>
  <dc:description/>
  <dc:language>en-US</dc:language>
  <cp:lastModifiedBy>LL4</cp:lastModifiedBy>
  <dcterms:modified xsi:type="dcterms:W3CDTF">2009-12-20T23:17:14Z</dcterms:modified>
  <cp:revision>7</cp:revision>
  <dc:subject/>
  <dc:title>Slide 1</dc:title>
</cp:coreProperties>
</file>